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1C82-813C-4F03-BF55-73E88321F9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D3A-F469-4FE0-95C0-82C2EBEE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D89-0158-4432-9272-6C5ED546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C6C-5344-4AE9-ACAA-8B1CF78B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1ED-FE4E-4348-9C02-CE316BD8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ECE4-CFAC-47A9-B023-3A267D94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5431-FB2A-46BF-A0FF-D2815893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D773-EB1F-424E-8E38-03D761B8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14C8-F835-45B1-8929-D27BFE99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9AAE-8C68-49CF-BDCA-24881443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A0AB-CCD5-494B-AF0C-5F447506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F676-5DAA-48A6-BCC7-F1785E97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893-3C8A-4B38-9525-9C43EC04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608D-0F06-4C5D-A0EF-83A1E801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7A17-EB01-4377-9C21-58FDC5CE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E75D-8FA1-4AD7-A312-6F14DF79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E4FD-A8A0-40F2-A4E9-9627DFAE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2915-790F-4897-B2A4-8874258D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E85-A0B5-4238-B563-4EFE07AA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7D3-BE3B-44A6-AA85-2BB5719F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096-4E6D-4181-8468-529E3A9F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679-286B-418F-AA6E-462F4DF8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6703-A631-49BD-BF91-3F98B726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E37-3B90-4888-96F7-36610E3F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9A18-E083-4E2F-91BF-F8B415B6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3CB8-0D63-4047-AE31-D8AEDC15C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F3FC-B8A0-4D28-ADD0-8FE99D715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3361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S Biology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ore Principl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881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 presetSubtype="130116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0" presetSubtype="130122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5379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or tissues are killed and chemically ‘fixed’ in a complicated and harsh treatment (in full detail in table 3.1 pg 52 Rowlan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es this differ to light microscop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treatment can result in alterations to the cell - known as artef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images produce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rcRect l="0" t="0" r="0" b="7411"/>
          <a:stretch/>
        </p:blipFill>
        <p:spPr>
          <a:xfrm>
            <a:off x="3352680" y="2260440"/>
            <a:ext cx="2708280" cy="3581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248520" y="4470480"/>
            <a:ext cx="213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mission electron micrograph of epithelial cells from a rat small intestin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ale bar = 5 m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Scanning EM microscopes the electrons bounce off the surface of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 images with a three-dimensional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 detailed study of su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0" t="8390" r="0" b="10688"/>
          <a:stretch/>
        </p:blipFill>
        <p:spPr>
          <a:xfrm>
            <a:off x="5562720" y="2666880"/>
            <a:ext cx="3382920" cy="23688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9" name="sem.mov" descr="sem"/>
          <p:cNvPicPr/>
          <p:nvPr/>
        </p:nvPicPr>
        <p:blipFill>
          <a:blip r:embed="rId1"/>
          <a:stretch/>
        </p:blipFill>
        <p:spPr>
          <a:xfrm>
            <a:off x="2971800" y="28195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1295280" y="1981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atch the following clip explaining S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4495680" cy="3052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nk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learn.co.uk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icroscopy-uk.org.uk/intro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wrn.com/feature/education.a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feic.com/support/tem/transmis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anka.livstek.lth.se:2080/microscopy/foodmicr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ght &amp; Electron Microscop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47920" y="2209680"/>
          <a:ext cx="7010280" cy="429732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n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e of l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ses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 s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n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 of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it can 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67"/>
          <p:cNvSpPr/>
          <p:nvPr/>
        </p:nvSpPr>
        <p:spPr>
          <a:xfrm>
            <a:off x="1371600" y="1523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 &amp; complete the following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im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olving power of light &amp; electron microsco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fference between the light &amp;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mission &amp; scanning electron microscop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es magnify &amp; resolve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y began in 1665 when Robert Hooke coined the word ‘cells’ to describe the structure of c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about 2 types of microscope - light &amp;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how they work and the differences between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not how much they magnify that is key - but how well they resolve…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mit of resolution of a microscope is the smallest distance between 2 points that can be seen using a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 measure of the clarity of the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icroscope with a high resolving power will allow 2 small objects which are close together to be seen as 2 distinct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 is inversely proportional to the wavelength of the radiation it 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819520" y="4191120"/>
            <a:ext cx="4019400" cy="1677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97168" presetSubtype="202246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2880" y="1600200"/>
            <a:ext cx="4694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ies of lenses through which ordinary white light can be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cal microscopes can not resolve 2 points closer together than about half (0.45) the wavelength of the light used (450-600n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lose is thi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magnification is the eyepiece magnification multiplied by the objective magn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ximum magnification of a light microscope is x150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no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Electron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4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(negatively charged, very small particles) can behave as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velength of electrons is about 0.005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limit of resolu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are ‘fired’ from an electron gun at the specimen and onto a fluorescent screen or photographic 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is this technique commonly us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2 types of electron microscopy - transmission and sc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focus an electron beam onto the specimen using electromagn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2880" y="1828800"/>
            <a:ext cx="530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ransmission EM the electrons pass through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men needs to be extremely thin - 10nm to 100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can magnify objects up to 500 000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has made it possible to see the details of and discover new organelles - see page 9 in Coll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22:16:20Z</dcterms:created>
  <dc:creator>Fearghal Kelly</dc:creator>
  <dc:description/>
  <dc:language>en-US</dc:language>
  <cp:lastModifiedBy>LEGION2</cp:lastModifiedBy>
  <dcterms:modified xsi:type="dcterms:W3CDTF">2016-01-11T13:18:03Z</dcterms:modified>
  <cp:revision>33</cp:revision>
  <dc:subject/>
  <dc:title>AS Biology Core Principles</dc:title>
</cp:coreProperties>
</file>